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8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668D-D88F-46D5-962F-ED313838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s of Stu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Bi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Popu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has medium electronegativity so doesn’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l elec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y off hydrogen where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ine wou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oxygen forms a polar covalent b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has only a weak electronegativity so forms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cal molec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some of its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are bal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little attraction between diffe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methane is a gas at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3A89-AE0D-4D62-8381-920D1B5EF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D979-A709-49D0-8662-5D3238B2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9F0A-6F49-403B-97BA-E5912CD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3672-27AC-40FD-849F-B9323D5A4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C37C-CED8-43F0-AFF6-61E4F6C1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42A0-5A78-4224-91A4-02424B8D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BD1F-75C9-4BF5-B0F1-46F8441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AE8F-24E0-426E-8481-18A534F6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15D4-74E4-4BD8-98A7-720F1DD4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7422-EAAF-4DB1-9AB3-0F48686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C74F-8578-498B-B6A7-CF59942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3CC1-3438-4444-990B-76A698FA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4DC-7445-4688-AE4D-B4B210AA1485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4-IonicBonds.m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2-CovalentBonds.mov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2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cal Contex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5720" y="39996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486400" y="1676520"/>
            <a:ext cx="3429000" cy="3352680"/>
            <a:chOff x="5486400" y="1676520"/>
            <a:chExt cx="3429000" cy="3352680"/>
          </a:xfrm>
        </p:grpSpPr>
        <p:sp>
          <p:nvSpPr>
            <p:cNvPr id="140" name=""/>
            <p:cNvSpPr/>
            <p:nvPr/>
          </p:nvSpPr>
          <p:spPr>
            <a:xfrm>
              <a:off x="6934320" y="30481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26668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22096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6600" y="2514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29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7524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868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868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its electron arrange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epends on the number of electrons in its outermost shell,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alence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8840" y="5334120"/>
            <a:ext cx="25171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does thi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om behave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14480" y="3048120"/>
            <a:ext cx="3276000" cy="3352680"/>
            <a:chOff x="1014480" y="3048120"/>
            <a:chExt cx="3276000" cy="3352680"/>
          </a:xfrm>
        </p:grpSpPr>
        <p:sp>
          <p:nvSpPr>
            <p:cNvPr id="167" name=""/>
            <p:cNvSpPr/>
            <p:nvPr/>
          </p:nvSpPr>
          <p:spPr>
            <a:xfrm>
              <a:off x="2309400" y="44197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8520" y="4038480"/>
              <a:ext cx="137124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71320" y="3581280"/>
              <a:ext cx="228564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62040" y="3886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2040" y="52578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0940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064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064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940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9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5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5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4480" y="3124080"/>
              <a:ext cx="320004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22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22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40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064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064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940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number of electrons in its outermost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4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408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08560" y="3124080"/>
            <a:ext cx="3200400" cy="3276720"/>
            <a:chOff x="5308560" y="3124080"/>
            <a:chExt cx="3200400" cy="3276720"/>
          </a:xfrm>
        </p:grpSpPr>
        <p:sp>
          <p:nvSpPr>
            <p:cNvPr id="191" name=""/>
            <p:cNvSpPr/>
            <p:nvPr/>
          </p:nvSpPr>
          <p:spPr>
            <a:xfrm>
              <a:off x="6603840" y="4419720"/>
              <a:ext cx="60984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2960" y="40384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65760" y="35812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648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6480" y="52578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0384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8508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8508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384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3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3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99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9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8560" y="31240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508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0384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row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number of shel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th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ame valenc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imilar chemical proper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866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1600200"/>
            <a:ext cx="579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ing from left to right, each element has a sequential addition of electrons (and prot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cal reactiv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tend t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te a partially filled outer (valence) 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mpty a partially filled outer (valence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tendency drives chemical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990720" y="1981080"/>
            <a:ext cx="7086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56960" y="456840"/>
            <a:ext cx="3589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can share more than one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bonds (2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iple bonds (3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Very 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16661" r="0" b="64460"/>
          <a:stretch/>
        </p:blipFill>
        <p:spPr>
          <a:xfrm>
            <a:off x="676440" y="4070520"/>
            <a:ext cx="77911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chemistr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has chemistry at its found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9802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73356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atom can form covalent bonds with two or more other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ms larg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.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rb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63213" r="0" b="2998"/>
          <a:stretch/>
        </p:blipFill>
        <p:spPr>
          <a:xfrm>
            <a:off x="685800" y="363384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ductionist view of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erything is made of mat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are made of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&lt;&lt;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orb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kinds of atoms = eleme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Bas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ld of Elemen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55200" cy="538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5480" y="17733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97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804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dels of at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7583"/>
          <a:stretch/>
        </p:blipFill>
        <p:spPr>
          <a:xfrm>
            <a:off x="1295280" y="1447920"/>
            <a:ext cx="64836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0680" y="62766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Atomic structure determines behavior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number of protons in an atom determines the ele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# of protons = atomic num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also tells you # of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atoms of an element have same chemical proper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 behave the s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erties don’t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380880"/>
            <a:ext cx="6424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to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number of neutrons (heavier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are unsta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ar reactions / dec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plit off neutrons &amp;/or prot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to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hazar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7660" r="0" b="5531"/>
          <a:stretch/>
        </p:blipFill>
        <p:spPr>
          <a:xfrm>
            <a:off x="5410080" y="3657600"/>
            <a:ext cx="3281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2T00:38:48Z</cp:lastPrinted>
  <dcterms:modified xsi:type="dcterms:W3CDTF">2005-09-12T00:39:01Z</dcterms:modified>
  <cp:revision>145</cp:revision>
  <dc:subject>Introduction to the Internet &amp; Web sites</dc:subject>
  <dc:title>Small Business Success on the Web</dc:title>
</cp:coreProperties>
</file>